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EC2-C97E-44A9-8F4C-D8F90E0D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01F-B362-40A7-AA0E-678678A8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7AE-9C8C-473A-8EFF-A85BA077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08B-3D85-4DC4-8C9B-19ABD446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4F8-8730-43B6-8CBA-7197BB10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0F6-B3D3-4DF1-AC47-15F1340E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1FB-B126-4884-9011-F361713F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FDB4-60BE-4FE6-A5D3-FD590F89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504-041C-4769-8412-EB6A0F56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760D-91F3-4481-AE13-9F5CC775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A4D-EDAC-4DE3-BD98-6A167ECE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2A9E-9524-4383-A327-99C1BF99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6EF6-92EC-4EC1-B7F9-0A591E2CB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87480"/>
            <a:ext cx="8077320" cy="6618240"/>
            <a:chOff x="838080" y="87480"/>
            <a:chExt cx="8077320" cy="6618240"/>
          </a:xfrm>
        </p:grpSpPr>
        <p:pic>
          <p:nvPicPr>
            <p:cNvPr id="42" name="Picture 2" descr="A picture containing text, electronics&#10;&#10;Description automatically generated"/>
            <p:cNvPicPr/>
            <p:nvPr/>
          </p:nvPicPr>
          <p:blipFill>
            <a:blip r:embed="rId1"/>
            <a:stretch/>
          </p:blipFill>
          <p:spPr>
            <a:xfrm>
              <a:off x="884160" y="2909880"/>
              <a:ext cx="3721320" cy="18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Box 8"/>
            <p:cNvSpPr/>
            <p:nvPr/>
          </p:nvSpPr>
          <p:spPr>
            <a:xfrm rot="16200000">
              <a:off x="1547280" y="2629440"/>
              <a:ext cx="49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9"/>
            <p:cNvSpPr/>
            <p:nvPr/>
          </p:nvSpPr>
          <p:spPr>
            <a:xfrm rot="16200000">
              <a:off x="1701720" y="255348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10"/>
            <p:cNvSpPr/>
            <p:nvPr/>
          </p:nvSpPr>
          <p:spPr>
            <a:xfrm rot="16200000">
              <a:off x="1934640" y="2551680"/>
              <a:ext cx="65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11" descr="A picture containing text&#10;&#10;Description automatically generated"/>
            <p:cNvPicPr/>
            <p:nvPr/>
          </p:nvPicPr>
          <p:blipFill>
            <a:blip r:embed="rId2"/>
            <a:stretch/>
          </p:blipFill>
          <p:spPr>
            <a:xfrm>
              <a:off x="838080" y="4756320"/>
              <a:ext cx="364824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" descr="A picture containing text, whiteboard&#10;&#10;Description automatically generated"/>
            <p:cNvPicPr/>
            <p:nvPr/>
          </p:nvPicPr>
          <p:blipFill>
            <a:blip r:embed="rId3"/>
            <a:stretch/>
          </p:blipFill>
          <p:spPr>
            <a:xfrm>
              <a:off x="4637160" y="2752560"/>
              <a:ext cx="427824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7" descr="A picture containing text, white&#10;&#10;Description automatically generated"/>
            <p:cNvPicPr/>
            <p:nvPr/>
          </p:nvPicPr>
          <p:blipFill>
            <a:blip r:embed="rId4"/>
            <a:stretch/>
          </p:blipFill>
          <p:spPr>
            <a:xfrm>
              <a:off x="4851360" y="4853160"/>
              <a:ext cx="39132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9"/>
            <p:cNvSpPr/>
            <p:nvPr/>
          </p:nvSpPr>
          <p:spPr>
            <a:xfrm rot="16200000">
              <a:off x="6696360" y="2427120"/>
              <a:ext cx="48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0"/>
            <p:cNvSpPr/>
            <p:nvPr/>
          </p:nvSpPr>
          <p:spPr>
            <a:xfrm rot="16200000">
              <a:off x="6817320" y="2354400"/>
              <a:ext cx="63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1"/>
            <p:cNvSpPr/>
            <p:nvPr/>
          </p:nvSpPr>
          <p:spPr>
            <a:xfrm rot="16200000">
              <a:off x="7042320" y="2350440"/>
              <a:ext cx="64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57440" y="3278160"/>
              <a:ext cx="68580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57440" y="6267600"/>
              <a:ext cx="685800" cy="304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37400" y="3311640"/>
              <a:ext cx="685800" cy="304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37400" y="6172200"/>
              <a:ext cx="68580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75800" y="20574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K2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5320" y="1905120"/>
              <a:ext cx="134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K293-51 CA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92880" y="33116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15120" y="630072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83400" y="87480"/>
              <a:ext cx="469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ll unedited gel of Figure 5E with labels (source data 2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07600" y="326556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29840" y="617868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089160" y="430200"/>
              <a:ext cx="2963880" cy="1553400"/>
              <a:chOff x="3089160" y="430200"/>
              <a:chExt cx="2963880" cy="1553400"/>
            </a:xfrm>
          </p:grpSpPr>
          <p:pic>
            <p:nvPicPr>
              <p:cNvPr id="64" name="Picture 77" descr="A picture containing floor&#10;&#10;Description automatically generated"/>
              <p:cNvPicPr/>
              <p:nvPr/>
            </p:nvPicPr>
            <p:blipFill>
              <a:blip r:embed="rId5"/>
              <a:srcRect l="10018" t="17415" r="10548" b="19692"/>
              <a:stretch/>
            </p:blipFill>
            <p:spPr>
              <a:xfrm>
                <a:off x="3549600" y="1362240"/>
                <a:ext cx="900000" cy="2840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5" name="Picture 79" descr="A picture containing floor&#10;&#10;Description automatically generated"/>
              <p:cNvPicPr/>
              <p:nvPr/>
            </p:nvPicPr>
            <p:blipFill>
              <a:blip r:embed="rId6"/>
              <a:srcRect l="0" t="29185" r="17407" b="24157"/>
              <a:stretch/>
            </p:blipFill>
            <p:spPr>
              <a:xfrm>
                <a:off x="4495680" y="1360440"/>
                <a:ext cx="898560" cy="285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6" name="TextBox 80"/>
              <p:cNvSpPr/>
              <p:nvPr/>
            </p:nvSpPr>
            <p:spPr>
              <a:xfrm>
                <a:off x="3676680" y="1752480"/>
                <a:ext cx="679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HEK2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Box 81"/>
              <p:cNvSpPr/>
              <p:nvPr/>
            </p:nvSpPr>
            <p:spPr>
              <a:xfrm>
                <a:off x="4381560" y="1751040"/>
                <a:ext cx="1125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HEK293-51 CA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Box 82"/>
              <p:cNvSpPr/>
              <p:nvPr/>
            </p:nvSpPr>
            <p:spPr>
              <a:xfrm>
                <a:off x="5489640" y="1405080"/>
                <a:ext cx="411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4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Box 83"/>
              <p:cNvSpPr/>
              <p:nvPr/>
            </p:nvSpPr>
            <p:spPr>
              <a:xfrm>
                <a:off x="5489640" y="1192320"/>
                <a:ext cx="411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3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Straight Connector 84"/>
              <p:cNvSpPr/>
              <p:nvPr/>
            </p:nvSpPr>
            <p:spPr>
              <a:xfrm>
                <a:off x="5479920" y="150192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Box 94"/>
              <p:cNvSpPr/>
              <p:nvPr/>
            </p:nvSpPr>
            <p:spPr>
              <a:xfrm>
                <a:off x="3109680" y="1398600"/>
                <a:ext cx="459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Acti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" name="Picture 76" descr="A close up of a person's eyes&#10;&#10;Description automatically generated with medium confidence"/>
              <p:cNvPicPr/>
              <p:nvPr/>
            </p:nvPicPr>
            <p:blipFill>
              <a:blip r:embed="rId7"/>
              <a:srcRect l="2869" t="18161" r="2194" b="23784"/>
              <a:stretch/>
            </p:blipFill>
            <p:spPr>
              <a:xfrm>
                <a:off x="3549600" y="1066680"/>
                <a:ext cx="900000" cy="2574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3" name="Picture 78" descr="A close up of a person's eyes&#10;&#10;Description automatically generated with medium confidence"/>
              <p:cNvPicPr/>
              <p:nvPr/>
            </p:nvPicPr>
            <p:blipFill>
              <a:blip r:embed="rId8"/>
              <a:srcRect l="11434" t="19195" r="10559" b="13831"/>
              <a:stretch/>
            </p:blipFill>
            <p:spPr>
              <a:xfrm>
                <a:off x="4495680" y="1066680"/>
                <a:ext cx="898560" cy="26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74" name="Straight Connector 85"/>
              <p:cNvSpPr/>
              <p:nvPr/>
            </p:nvSpPr>
            <p:spPr>
              <a:xfrm>
                <a:off x="5479920" y="130644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Box 86"/>
              <p:cNvSpPr/>
              <p:nvPr/>
            </p:nvSpPr>
            <p:spPr>
              <a:xfrm>
                <a:off x="5298840" y="836640"/>
                <a:ext cx="754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Size (kD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Box 87"/>
              <p:cNvSpPr/>
              <p:nvPr/>
            </p:nvSpPr>
            <p:spPr>
              <a:xfrm rot="16200000">
                <a:off x="3486240" y="692640"/>
                <a:ext cx="522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Box 88"/>
              <p:cNvSpPr/>
              <p:nvPr/>
            </p:nvSpPr>
            <p:spPr>
              <a:xfrm rot="16200000">
                <a:off x="3708000" y="652680"/>
                <a:ext cx="596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Box 89"/>
              <p:cNvSpPr/>
              <p:nvPr/>
            </p:nvSpPr>
            <p:spPr>
              <a:xfrm rot="16200000">
                <a:off x="3952440" y="633600"/>
                <a:ext cx="63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Box 90"/>
              <p:cNvSpPr/>
              <p:nvPr/>
            </p:nvSpPr>
            <p:spPr>
              <a:xfrm rot="16200000">
                <a:off x="4427640" y="691200"/>
                <a:ext cx="522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Box 91"/>
              <p:cNvSpPr/>
              <p:nvPr/>
            </p:nvSpPr>
            <p:spPr>
              <a:xfrm rot="16200000">
                <a:off x="4630320" y="632160"/>
                <a:ext cx="63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92"/>
              <p:cNvSpPr/>
              <p:nvPr/>
            </p:nvSpPr>
            <p:spPr>
              <a:xfrm rot="16200000">
                <a:off x="4881240" y="632160"/>
                <a:ext cx="63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Box 93"/>
              <p:cNvSpPr/>
              <p:nvPr/>
            </p:nvSpPr>
            <p:spPr>
              <a:xfrm>
                <a:off x="3089160" y="1096920"/>
                <a:ext cx="479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HT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2134800" y="114624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5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14T16:33:43Z</dcterms:created>
  <dc:creator>User</dc:creator>
  <dc:description/>
  <dc:language>en-US</dc:language>
  <cp:lastModifiedBy>User</cp:lastModifiedBy>
  <dcterms:modified xsi:type="dcterms:W3CDTF">2024-05-20T18:53:48Z</dcterms:modified>
  <cp:revision>7</cp:revision>
  <dc:subject/>
  <dc:title>Slide 1</dc:title>
</cp:coreProperties>
</file>